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915-B14B-4ECB-8026-5DFD3E56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F29-640D-4AAE-A271-00E75F9A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C04-E4D3-446B-8737-D1875F31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E3E-A481-441B-BD09-5D6671E2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FA7-03D0-486E-A31C-F7968B5C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EB7-E831-4C2A-A4BF-BC1B53F0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B7B-BF46-4F8B-9D79-EDBEEA9D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044-45CA-461B-AAC0-7ED1EBF3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025-1077-4100-AB62-32BD6C15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EB8-0D01-45DB-9BC1-44DC8D5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18C-C966-4ED8-9564-DD0E5FD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9C0-CF5A-48FC-8192-DB9E8D9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AC28-A3A6-4E72-891E-E9C631153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008160" y="11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380880"/>
            <a:ext cx="5400720" cy="2810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Y SHOULD YOU RECYCLE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93356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ff"/>
              </a:buClr>
              <a:buFont typeface="Broadway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Broadway"/>
                <a:ea typeface="Times New Roman"/>
              </a:rPr>
              <a:t>TO KEEP THE PLAYGROUND CLEAN OF TR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Broadway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Broadway"/>
                <a:ea typeface="Times New Roman"/>
              </a:rPr>
              <a:t>TO PROTECT OUR WATERSHED AND OC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Broadway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Broadway"/>
                <a:ea typeface="Times New Roman"/>
              </a:rPr>
              <a:t>TO PROTECT  ANIMALS AND WILDLIFE FROM GETTING HURT ON TR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Broadway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Broadway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Broadway"/>
                <a:ea typeface="Times New Roman"/>
              </a:rPr>
              <a:t>SAVE OUR ENVIR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4:59:09Z</dcterms:created>
  <dc:creator>mes5c</dc:creator>
  <dc:description/>
  <dc:language>en-US</dc:language>
  <cp:lastModifiedBy>mes5c</cp:lastModifiedBy>
  <dcterms:modified xsi:type="dcterms:W3CDTF">2011-02-03T13:17:57Z</dcterms:modified>
  <cp:revision>2</cp:revision>
  <dc:subject/>
  <dc:title>Slide 1</dc:title>
</cp:coreProperties>
</file>